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2A1C-9686-406C-BEE0-9412EB88616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89F9E-B2BB-4CB6-9433-DF4FA4A029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5FC5A-AB47-4A17-BB1A-CFCD71D96A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8EFD-1069-4160-ADCA-8AACC5ABD8F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92E9-B6D9-4C33-8ADC-15D57BD9DB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12A0-B0F4-4F3C-8E8F-B9E419D1601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0BB9F-BDDA-4149-9D55-33211DCCA8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5C60-5C08-45B7-ADAF-E7EEEA9DA5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grada številke diapozitiva 3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31F2-8B6C-43D9-9C93-246D2C814C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E74-371E-418F-BA58-759177B33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423E-2826-4306-9F47-7272056F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3DB2-EE63-4380-85C2-71E515180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1335-54E8-4EF1-A708-64E1B531C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369-E148-4228-9AD0-4CB02302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B4E4-CF42-4EE4-982F-87493C74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613C-89D5-4EED-8B1A-769015FB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003-CA3E-412B-A446-E7417A38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A27C-4574-4B93-9358-B24C4DB2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296A-44B7-4028-9DA7-7FEFDC50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3823-87C2-4662-BDDE-620556581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D7A-DCE0-4B46-AF1A-C3E1CF33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A3FC-1CF8-4F97-BE89-651D0C9642E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ddsz.gov.si/" TargetMode="External"/><Relationship Id="rId2" Type="http://schemas.openxmlformats.org/officeDocument/2006/relationships/hyperlink" Target="http://www.zdops.si/" TargetMode="External"/><Relationship Id="rId3" Type="http://schemas.openxmlformats.org/officeDocument/2006/relationships/hyperlink" Target="http://www.sops.si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484280"/>
            <a:ext cx="7772400" cy="38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600" spc="-1" strike="noStrike">
                <a:solidFill>
                  <a:srgbClr val="0000ff"/>
                </a:solidFill>
                <a:latin typeface="Arial"/>
              </a:rPr>
              <a:t>DialogeS </a:t>
            </a:r>
            <a:br>
              <a:rPr sz="2800"/>
            </a:b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“ZDOPS in SOPS skupaj v socialnem dialogu do predlogov izvedbenih rešitev na področju pogojev dela in zaposlovanja    v obrti in podjetništvu”</a:t>
            </a:r>
            <a:br>
              <a:rPr sz="2600"/>
            </a:br>
            <a:br>
              <a:rPr sz="3600"/>
            </a:b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Nataša Cvetek, Tomaž Bernik</a:t>
            </a:r>
            <a:br>
              <a:rPr sz="2000"/>
            </a:br>
            <a:br>
              <a:rPr sz="3600"/>
            </a:br>
            <a:r>
              <a:rPr b="1" lang="sl-SI" sz="2200" spc="-1" strike="noStrike">
                <a:solidFill>
                  <a:srgbClr val="000000"/>
                </a:solidFill>
                <a:latin typeface="Tahoma"/>
                <a:ea typeface="Tahoma"/>
              </a:rPr>
              <a:t>28. 5. 2014</a:t>
            </a:r>
            <a:br>
              <a:rPr sz="24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5589720"/>
            <a:ext cx="83534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51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53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3000" spc="-1" strike="noStrike" u="sng">
                <a:solidFill>
                  <a:srgbClr val="ff0000"/>
                </a:solidFill>
                <a:uFillTx/>
                <a:latin typeface="Arial"/>
              </a:rPr>
              <a:t>Partnerji v projektu “DialogeS”</a:t>
            </a:r>
            <a:r>
              <a:rPr b="1" i="1" lang="sl-SI" sz="3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Razpisovalec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inistrstvo za delo, družino, socialne zadeve in enake možnosti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ddsz.gov.si</a:t>
            </a: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Izvajalca: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Združenje delodajalcev obrti in podjetnikov Slovenije GIZ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zdops.si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Sindikat obrti in podjetnikov Slovenije  </a:t>
            </a: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sops.si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i="1" lang="sl-SI" sz="2000" spc="-1" strike="noStrike" u="sng">
                <a:solidFill>
                  <a:srgbClr val="ff0000"/>
                </a:solidFill>
                <a:uFillTx/>
                <a:latin typeface="Arial"/>
              </a:rPr>
              <a:t>Trajanje projekta: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000" spc="-1" strike="noStrike">
                <a:solidFill>
                  <a:srgbClr val="0000ff"/>
                </a:solidFill>
                <a:latin typeface="Arial"/>
              </a:rPr>
              <a:t>1.8.2013 do 31.8.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400"/>
            </a:br>
            <a:br>
              <a:rPr sz="24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Namen in cilji projekta: </a:t>
            </a:r>
            <a:br>
              <a:rPr sz="24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Okrepitev bipartitnega socialnega dialoga</a:t>
            </a:r>
            <a:br>
              <a:rPr sz="1600"/>
            </a:b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* Priprava podlag za predloge rešitev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izboljšanje pogojev dela in zaposlova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krepov APZ in vse življenjskega učenja.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 u="sng">
                <a:solidFill>
                  <a:srgbClr val="000000"/>
                </a:solidFill>
                <a:uFillTx/>
                <a:latin typeface="Arial"/>
              </a:rPr>
              <a:t> * Priprava predlogov za: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boljšo ureditev organizacije del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generacijsko sodelovanje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usklajevanje poklicnega in zasebnega življenja,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irno reševanje individualnih delovnih sporov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45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3200" spc="-1" strike="noStrike">
                <a:solidFill>
                  <a:srgbClr val="ff0000"/>
                </a:solidFill>
                <a:latin typeface="Arial"/>
              </a:rPr>
              <a:t>DialogeS” </a:t>
            </a:r>
            <a:br>
              <a:rPr sz="2800"/>
            </a:br>
            <a:br>
              <a:rPr sz="2800"/>
            </a:br>
            <a:r>
              <a:rPr b="1" i="1" lang="sl-SI" sz="2400" spc="-1" strike="noStrike" u="sng">
                <a:solidFill>
                  <a:srgbClr val="0000ff"/>
                </a:solidFill>
                <a:uFillTx/>
                <a:latin typeface="Arial"/>
              </a:rPr>
              <a:t>Dodana vrednost:</a:t>
            </a:r>
            <a:r>
              <a:rPr b="1" i="1" lang="sl-SI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boljše razumevanje potreb med socialnimi partnerji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zitivno okolje za soustvarjanje politik trga dela; 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okrepljeno sodelovanje– delodajalci – delojemalci – ZRSZ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redlogi urejanja delovnega okolja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analiza potreb trga dela in kompetenčni model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a fleksibilnost in konkurenčnost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povečano razumevanje institutov ZDR in KPOP med  članstvom;</a:t>
            </a:r>
            <a:br>
              <a:rPr sz="2000"/>
            </a:br>
            <a:r>
              <a:rPr b="1" i="1" lang="sl-SI" sz="2000" spc="-1" strike="noStrike">
                <a:solidFill>
                  <a:srgbClr val="000000"/>
                </a:solidFill>
                <a:latin typeface="Arial"/>
              </a:rPr>
              <a:t>- mednarodno sodelovanje in prenos dobrih praks EU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sl-SI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2800"/>
            </a:br>
            <a:br>
              <a:rPr sz="2000"/>
            </a:br>
            <a:r>
              <a:rPr b="1" i="1" lang="sl-SI" sz="2000" spc="-1" strike="noStrike" u="sng">
                <a:solidFill>
                  <a:srgbClr val="0000ff"/>
                </a:solidFill>
                <a:uFillTx/>
                <a:latin typeface="Arial"/>
              </a:rPr>
              <a:t>Sodelovanje s tujimi partnerji:</a:t>
            </a:r>
            <a:br>
              <a:rPr sz="2000"/>
            </a:br>
            <a:r>
              <a:rPr b="1" i="1" lang="sl-SI" sz="1600" spc="-1" strike="noStrike">
                <a:solidFill>
                  <a:srgbClr val="0000ff"/>
                </a:solidFill>
                <a:latin typeface="Arial"/>
              </a:rPr>
              <a:t>z institucijami na področju zaposlovanja, izobraževanja, delodajalskimi organizacijami in sindikati</a:t>
            </a:r>
            <a:br>
              <a:rPr sz="2000"/>
            </a:br>
            <a:r>
              <a:rPr b="1" i="1" lang="sl-SI" sz="2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Center znanja za poklicno izobraževanje (KBA, Nizozemsk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Javni zavod za zaposlovanje v Celovcu (AMS, Avstrija)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Gospodarska zbornica za München in Zgorno Bavarsko, (IHK, Nemčija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1341000"/>
            <a:ext cx="77724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dogodki in aktivnosti za partnerje in javnost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delodajalc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avnice za zaposlene 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osvet sindikatov - Žužkovi dnev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mednarodni posvet delodajalcev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delo v strokovni delovni skupini ZDOPS-SOPS-ZRSZ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loženke, publikacij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spletne stra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kolektivna pogodba za obrt in podjetništvo s komentarjem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ključna mednarodna konferenc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148428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 “</a:t>
            </a: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DialogeS”</a:t>
            </a:r>
            <a:br>
              <a:rPr sz="2800"/>
            </a:b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izkušnje z izvajanjem projekta:</a:t>
            </a:r>
            <a:br>
              <a:rPr sz="1600"/>
            </a:br>
            <a:r>
              <a:rPr b="1" i="1" lang="sl-SI" sz="1600" spc="-1" strike="noStrike">
                <a:solidFill>
                  <a:srgbClr val="ff0000"/>
                </a:solidFill>
                <a:latin typeface="Arial"/>
              </a:rPr>
              <a:t> +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med partnerji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dobro sodelovanje z ZRSZ in inštitucijami iz tujine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pozitiven odziv članstva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+ elektronsko oddajanje dokumentov (poročanje naročniku)</a:t>
            </a:r>
            <a:br>
              <a:rPr sz="1600"/>
            </a:br>
            <a:br>
              <a:rPr sz="1600"/>
            </a:br>
            <a:r>
              <a:rPr b="1" i="1" lang="sl-SI" sz="2800" spc="-1" strike="noStrike">
                <a:solidFill>
                  <a:srgbClr val="ff0000"/>
                </a:solidFill>
                <a:latin typeface="Arial"/>
              </a:rPr>
              <a:t>-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tehnična pomoč (EKC) za ISARR le preko e-pošte, odgovori so prepogosto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kasni, splošni in netočn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priročnik za uporabo ISARR (MVP) bi bil lahko dopolnjen s prilogo, kjer bi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bile zapisane rešitve najpogostejših napak (posledična razbremenitev EKC)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- zahtevno in zamudno je poročanje s sistemom ISARR (racionalnejše bi bilo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tudi, če bi lahko oddali osnutek poročila v predpregled in šele potem </a:t>
            </a: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  zaključili vse postopke v ISARR-ju)</a:t>
            </a:r>
            <a:br>
              <a:rPr sz="1600"/>
            </a:b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b050"/>
                </a:solidFill>
                <a:latin typeface="Arial"/>
              </a:rPr>
              <a:t>	</a:t>
            </a:r>
            <a:br>
              <a:rPr sz="1600"/>
            </a:br>
            <a:br>
              <a:rPr sz="1600"/>
            </a:b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15640" y="475920"/>
            <a:ext cx="69850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00"/>
                </a:solidFill>
                <a:latin typeface="Arial"/>
              </a:rPr>
              <a:t>Projekt </a:t>
            </a:r>
            <a:r>
              <a:rPr b="1" i="1" lang="sl-SI" sz="14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4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060280"/>
            <a:ext cx="777240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Tahoma"/>
                <a:ea typeface="Tahoma"/>
              </a:rPr>
              <a:t>HVALA ZA POZORNOS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95280" y="5516280"/>
            <a:ext cx="835344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a oz. projekt  </a:t>
            </a:r>
            <a:r>
              <a:rPr b="1" i="1" lang="sl-SI" sz="1000" spc="-1" strike="noStrike">
                <a:solidFill>
                  <a:srgbClr val="0000ff"/>
                </a:solidFill>
                <a:latin typeface="Arial"/>
              </a:rPr>
              <a:t>DialogeS</a:t>
            </a:r>
            <a:r>
              <a:rPr b="0" i="1" lang="sl-SI" sz="1000" spc="-1" strike="noStrike">
                <a:solidFill>
                  <a:srgbClr val="0000ff"/>
                </a:solidFill>
                <a:latin typeface="Arial"/>
              </a:rPr>
              <a:t>: »ZDOPS in SOPS skupaj v socialnem dialogu do predlogov izvedbenih rešitev na področju pogojev dela in zaposlovanja v obrti in podjetništvu«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Operacijo delno financira Evropska unija iz Evropskega socialnega sklada. Operacija se izvaja v okviru Operativnega programa razvoja človeških virov za obdobje 2007-2013, 1. razvojne prioritete: 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»Spodbujanje podjetništva in prilagodljivosti prednostne usmeritve« 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in prednostne usmeritve 1.4.:</a:t>
            </a:r>
            <a:r>
              <a:rPr b="0" i="1" lang="sl-SI" sz="1000" spc="-1" strike="noStrike">
                <a:solidFill>
                  <a:srgbClr val="000000"/>
                </a:solidFill>
                <a:latin typeface="Arial"/>
              </a:rPr>
              <a:t> »Pospeševanje razvoja novih zaposlitvenih možnosti«</a:t>
            </a:r>
            <a:r>
              <a:rPr b="0" i="1" lang="pl-PL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lika 2" descr=""/>
          <p:cNvPicPr/>
          <p:nvPr/>
        </p:nvPicPr>
        <p:blipFill>
          <a:blip r:embed="rId1"/>
          <a:stretch/>
        </p:blipFill>
        <p:spPr>
          <a:xfrm>
            <a:off x="2700360" y="189000"/>
            <a:ext cx="2232000" cy="830160"/>
          </a:xfrm>
          <a:prstGeom prst="rect">
            <a:avLst/>
          </a:prstGeom>
          <a:ln w="0">
            <a:noFill/>
          </a:ln>
        </p:spPr>
      </p:pic>
      <p:pic>
        <p:nvPicPr>
          <p:cNvPr id="69" name="Slika 1" descr="C:\Users\natasav\Desktop\SOPS logo ENG v_fin.jpg"/>
          <p:cNvPicPr/>
          <p:nvPr/>
        </p:nvPicPr>
        <p:blipFill>
          <a:blip r:embed="rId2"/>
          <a:stretch/>
        </p:blipFill>
        <p:spPr>
          <a:xfrm>
            <a:off x="5148360" y="0"/>
            <a:ext cx="936360" cy="936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MDDSZ_Direkt_za_trg_dela_in_zaposlovanje"/>
          <p:cNvPicPr/>
          <p:nvPr/>
        </p:nvPicPr>
        <p:blipFill>
          <a:blip r:embed="rId3"/>
          <a:srcRect l="0" t="0" r="0" b="22545"/>
          <a:stretch/>
        </p:blipFill>
        <p:spPr>
          <a:xfrm>
            <a:off x="0" y="0"/>
            <a:ext cx="2771640" cy="990720"/>
          </a:xfrm>
          <a:prstGeom prst="rect">
            <a:avLst/>
          </a:prstGeom>
          <a:ln w="0">
            <a:noFill/>
          </a:ln>
        </p:spPr>
      </p:pic>
      <p:pic>
        <p:nvPicPr>
          <p:cNvPr id="71" name="Slika 4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23637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19:06Z</dcterms:created>
  <dc:creator>Natasa Terzic</dc:creator>
  <dc:description/>
  <dc:language>en-US</dc:language>
  <cp:lastModifiedBy>Althea</cp:lastModifiedBy>
  <cp:lastPrinted>2014-05-27T07:25:43Z</cp:lastPrinted>
  <dcterms:modified xsi:type="dcterms:W3CDTF">2014-05-28T07:08:04Z</dcterms:modified>
  <cp:revision>39</cp:revision>
  <dc:subject/>
  <dc:title>Vstavite naslov dogodka   Predavatelj: ? Kraj?, ?. ?. 2013</dc:title>
</cp:coreProperties>
</file>